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drumroll.wav" ContentType="audio/x-wav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6C0-D8F3-4223-BF00-60210EC1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DEB-BE86-43D8-BFF4-50EF452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E1F23-9C0D-4069-A49A-76E691AE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9E494-D32F-44F8-A197-71EB5B95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85331-204B-4318-8261-B1F266D6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8F755-8226-4DB8-B4F3-BD251585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2D55D-CB22-4444-B80B-95F3099E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A73CF-7E0B-4824-9B1F-EB55A46F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F27D4-0626-40E0-88F2-8A5FA793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A6A24-72F7-41C4-BD66-CDB0D5CD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ADCFA-8C06-4A91-BC16-C17ED84C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FD9A8-7826-4136-9975-A9695A65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596-7EF7-40BC-9C16-779650B0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09D66-24AE-430E-8012-74650E91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6ECD8-085D-4758-BC81-587E7739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8C087-440C-4221-87D1-E0CAD1A6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332F9-5E90-4FB7-B6E5-12C1F569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6DBA7-8EE7-4CB1-B6F9-D49A0F02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F05DD-4C72-46A8-9AFA-31BEE25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D2B3F-30BB-4D2C-8A3D-6612C87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AF325-7D8A-4D0B-A3CE-C39FB051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7B592-90D5-4056-AE3A-036FA80A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8C583-C123-40C6-8C9F-8E31D27D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3EC-512D-4C27-B2E5-522E2C53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4E9E8-3EE7-4EBF-B1B7-E8CEAB65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24301-0E0F-42E7-B1E5-146CAE7C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67987-0C30-4066-813A-1D5528BF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4B52A-80A7-45B0-8C90-3441BDE0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0A1CA-661D-49A6-BB12-38817B64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7AF27-CE18-4E5C-85DC-9F3737B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D1CCA-68CC-4936-B953-7DC41DFC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45693-9284-4C67-BB55-C807D62A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34A00-9FBD-4720-AFED-7C5FAF4B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F1776-3F57-4A92-BE77-BC8B4CA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87AA-A1E0-4637-88C9-5990914F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5FD6B-40FE-4854-9184-5720D230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4776F-D97B-422B-9575-C1C6DE7D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ADCB0-AAA8-4391-BDC1-11BA985A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316DF-ED4A-428C-9959-39755A77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34C99-58A2-4617-B09A-082BCD5D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5B886-04B3-4820-86A8-292C51F8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93FB2-268D-414C-B483-7EFA960B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D3665-1C55-4D96-9F22-10CAD358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6E095-66FB-4A73-98F5-AF31A1C2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D2A33-884D-410C-BFFA-F913089D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47BA-F408-4A1F-ADD9-CD59A0EF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BD4F4-6866-49D4-8190-9113A41A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023F6-AFE8-4EDB-8532-5365EC31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5162B-0659-443F-9BAA-05FE95D7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ABD40-B8FE-475C-90C9-485AE004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E098C-37EF-4F95-B3F5-FD2BD56C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82C7-9ADC-4571-A7FD-16937FF9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2C89-D907-4CA3-9C7D-B4248F7A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73D2-4B36-4771-A0ED-EE4E1C01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6800-5DA8-49EB-A7E8-29278EA5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CDBD-C37C-46D4-8D3C-8E522F73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D8D-8D2D-48EE-9B85-FE8426BE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D0E2-AD16-4B27-8259-7A46078E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3CC9-3EA6-42B6-863B-8993E5B0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A82C-8D34-46D1-9042-F68A5BF1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31C0-E12F-4F74-BCDC-08849C5C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8383-FC65-4AAF-A70B-62B76168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268D-709D-4A40-8172-C580A652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2E1C-3F0D-4095-92B9-9FB25324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44C8-A93A-4270-BDE8-0BA0EBD8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12F95-3D82-4EE0-A0E3-C7A1F60A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DF4B-62E6-461E-829F-77DA43BD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E41-2937-4704-ABED-D2F5332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9A5F-9F2C-430B-8E2E-B202C70B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445E-14C3-413F-8A68-85E710D7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83CC-1624-4350-B82D-19083AE4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C226-8C89-4C78-B213-D65AE0C2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505A-E160-40B2-809B-2C6A0752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ED3BF-6072-41DF-9BAC-E054010C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784E-75D3-479E-9A7D-E91D98D5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FBFF-FEAC-4B17-BCC6-170C506E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D66F-99C2-4A75-9F88-0E9EC28C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AFB60-0CCA-490C-B6AF-0A2473D7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8C1-2E6C-463C-96A1-57817DC4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B3242-83C1-4DD2-BAD3-5EA1711B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4C38-D746-4557-8461-84C9DB1F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64E62-48AA-43FE-9D9F-E59660FF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EBFC-85AF-4F63-A9C3-61CF60A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0F59-A3F6-4386-9AA4-3DE8438B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CA72-8D12-48D0-9868-B741B541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DD291-E848-45A9-AEFD-B19CF1F8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ACBD-1B51-42C6-98B1-028BEA45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421C-2855-4D67-B60F-0F1373E3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681A-E673-415B-A584-446996AE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13D-EA9B-4642-9556-F3419FC2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020CC-43FA-40DB-9E08-E61680B3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606AB-5C99-4D91-A76A-9DFA5963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047BB-0410-45FF-9E62-1974DE1A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11751-935D-4820-AC40-8AB7A2CA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77A4D-32DB-42AB-AFA1-E81C745E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3FD24-3034-4ECA-9A31-3D68F4CF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2953B-CDB2-4801-A451-1DFA8180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CC066-8A34-4666-A4CD-D7E040EB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D6CA-A965-4FAB-B1A6-6056C717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E53B7-B705-4BD0-86DF-B85C20A7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1B3-0ACD-48A6-8C18-0DE2856E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9F279-F704-4CD7-9FB0-06B11D29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3008A-F32B-42BA-892C-7E3DE572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FBFB9-13DD-4237-9A64-EE93650B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FD390-5273-47EF-9184-F39B0688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03EB0-E0B5-4ECD-AE64-9B4A7C8F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7E637-9177-4DE6-AE66-7CAB9362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964B6-8DC3-4594-B3B1-47C91A65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015A-E385-409E-9F2A-491479F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EBEE-A847-4F3B-BA0E-8B6B3A4E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525AA-686F-465F-BB08-47B29A11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6DA-1667-4558-AF93-715235DA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41ECF-C30E-454A-A398-11878B78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AEE1D-94E8-45F5-A2F5-5BA7F49D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0AF8D-80D9-43FE-BFD3-1E99BEAA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04137-72D1-43B9-B44F-F87213F7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51481-DEFC-4204-A852-E20C0ABD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FCEE7-7C2C-4DA1-BBF3-1E2F7C84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EDA39-3358-479B-BD48-E0DC21DA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48DE4-60CA-496F-A8E6-6FE6BED4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648C-EDA9-49C9-A0D9-7EBEDA31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799EC-A5FE-412F-8A3D-09972113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C5D-6406-4B2D-9441-5D238A93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E023C-FD5E-47AA-95D2-B1B36BF0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26473-1A93-4894-9EB5-5667BC1A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7388F-B4DC-4AC0-AB32-A755A712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0A456-E1CC-4FBB-B775-4B334DF4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244E4-DAC5-4785-B76A-F817BC4B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7CA00-C871-48FA-90DB-2494D859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EB5D6-A0ED-4F3E-9758-4192C997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8CE59-6DCF-4A3F-9B48-3EB36D8E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996E3-5B12-412D-98F3-7CE36DE9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AC746-C297-4FC6-850F-94DAEBB6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317-C2AA-483D-93CB-CACAB338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CA872-6CB4-4BAE-A013-913FF60D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E6D1F-8B6E-4867-9545-A33486F3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834EF-2A09-4D39-A499-FD149C3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793A3-DE9D-475F-87F8-03AB04A1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1B086-CAC1-4B3A-A525-EB9E1E80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C1708-BD28-4C69-A53C-F626089C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499C3-A354-4139-AC81-857E3A4B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0FD37-1C85-4283-B0F7-5166ED8F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FD70A-BE35-4826-9435-85FF7240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669CC-564F-458A-8A82-A92E878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A933-F6FB-4534-B13A-BF5B28723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05CE-BE03-41D5-AB0E-509462E14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F27D-BA3E-4A5F-9841-7C324D009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5A2E-315E-415F-B26B-D61A4FA9B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58CC-9EB1-447A-83FA-78E167D07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38EC-91DA-4CCA-A78E-3B2B23E11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759D-37E0-4E92-B42B-AC5BAE94A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C188-B764-4594-9E44-01AEC6C00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08AC-692A-4997-A2B1-34878AACF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28D4-B3C0-4077-8A17-89694D1AF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BCD4-D76A-413F-AE48-711824EFD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FEE3-1914-4A89-9001-DC670D889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990720" y="-609480"/>
            <a:ext cx="198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30322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943600" y="24591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3276720" y="-685800"/>
            <a:ext cx="1987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609480" y="2209680"/>
            <a:ext cx="251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3276720" y="-838080"/>
            <a:ext cx="12952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13" descr="KT044"/>
          <p:cNvPicPr/>
          <p:nvPr/>
        </p:nvPicPr>
        <p:blipFill>
          <a:blip r:embed="rId1"/>
          <a:stretch/>
        </p:blipFill>
        <p:spPr>
          <a:xfrm>
            <a:off x="6083280" y="-380880"/>
            <a:ext cx="3060720" cy="5105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KT151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50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50F1-CA81-41B8-9668-888FFE7F8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矩形 13324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580" name="Group 3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581" name="Picture 4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 Box 5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6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ō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7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585" name="Group 8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586" name="Picture 9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Text Box 10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Text Box 11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2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590" name="Group 13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591" name="Picture 14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Text Box 15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Text Box 16"/>
            <p:cNvSpPr/>
            <p:nvPr/>
          </p:nvSpPr>
          <p:spPr>
            <a:xfrm>
              <a:off x="6929280" y="847800"/>
              <a:ext cx="1154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Group 32"/>
          <p:cNvGrpSpPr/>
          <p:nvPr/>
        </p:nvGrpSpPr>
        <p:grpSpPr>
          <a:xfrm>
            <a:off x="826920" y="3860640"/>
            <a:ext cx="2231640" cy="1942560"/>
            <a:chOff x="826920" y="3860640"/>
            <a:chExt cx="2231640" cy="1942560"/>
          </a:xfrm>
        </p:grpSpPr>
        <p:grpSp>
          <p:nvGrpSpPr>
            <p:cNvPr id="595" name="Group 18"/>
            <p:cNvGrpSpPr/>
            <p:nvPr/>
          </p:nvGrpSpPr>
          <p:grpSpPr>
            <a:xfrm>
              <a:off x="826920" y="3860640"/>
              <a:ext cx="2231640" cy="1942560"/>
              <a:chOff x="826920" y="3860640"/>
              <a:chExt cx="2231640" cy="1942560"/>
            </a:xfrm>
          </p:grpSpPr>
          <p:pic>
            <p:nvPicPr>
              <p:cNvPr id="596" name="Picture 19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826920" y="3860640"/>
                <a:ext cx="223164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20"/>
              <p:cNvSpPr/>
              <p:nvPr/>
            </p:nvSpPr>
            <p:spPr>
              <a:xfrm>
                <a:off x="1029960" y="4206960"/>
                <a:ext cx="1825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Text Box 21"/>
            <p:cNvSpPr/>
            <p:nvPr/>
          </p:nvSpPr>
          <p:spPr>
            <a:xfrm>
              <a:off x="1332000" y="450864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2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600" name="Group 2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601" name="Picture 2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Text Box 2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Text Box 2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Group 2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605" name="Group 2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606" name="Picture 2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3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Text Box 3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5703-DAA1-44FB-ADBE-C0B213A29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612" name="Group 3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613" name="Picture 4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Text Box 5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Text Box 6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7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617" name="Group 8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618" name="Picture 9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Text Box 10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Text Box 11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2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622" name="Group 13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623" name="Picture 14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Text Box 15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Text Box 16"/>
            <p:cNvSpPr/>
            <p:nvPr/>
          </p:nvSpPr>
          <p:spPr>
            <a:xfrm>
              <a:off x="6929280" y="847800"/>
              <a:ext cx="816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ǔ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17"/>
          <p:cNvGrpSpPr/>
          <p:nvPr/>
        </p:nvGrpSpPr>
        <p:grpSpPr>
          <a:xfrm>
            <a:off x="826920" y="3860640"/>
            <a:ext cx="2231640" cy="1942560"/>
            <a:chOff x="826920" y="3860640"/>
            <a:chExt cx="2231640" cy="1942560"/>
          </a:xfrm>
        </p:grpSpPr>
        <p:grpSp>
          <p:nvGrpSpPr>
            <p:cNvPr id="627" name="Group 18"/>
            <p:cNvGrpSpPr/>
            <p:nvPr/>
          </p:nvGrpSpPr>
          <p:grpSpPr>
            <a:xfrm>
              <a:off x="826920" y="3860640"/>
              <a:ext cx="2231640" cy="1942560"/>
              <a:chOff x="826920" y="3860640"/>
              <a:chExt cx="2231640" cy="1942560"/>
            </a:xfrm>
          </p:grpSpPr>
          <p:pic>
            <p:nvPicPr>
              <p:cNvPr id="628" name="Picture 19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826920" y="3860640"/>
                <a:ext cx="223164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Text Box 20"/>
              <p:cNvSpPr/>
              <p:nvPr/>
            </p:nvSpPr>
            <p:spPr>
              <a:xfrm>
                <a:off x="1029960" y="4206960"/>
                <a:ext cx="1825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21"/>
            <p:cNvSpPr/>
            <p:nvPr/>
          </p:nvSpPr>
          <p:spPr>
            <a:xfrm>
              <a:off x="1332000" y="450864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632" name="Group 2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633" name="Picture 2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Text Box 2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Text Box 2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2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637" name="Group 2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638" name="Picture 2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Text Box 3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Text Box 3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5D87-6D0B-4E77-AED5-191C0CF6A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会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要认真学习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真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爱爸爸和妈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请你告诉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是你的朋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你认识我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5747-EDBA-4DEC-8B5D-FB2407188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3048120" y="0"/>
            <a:ext cx="64926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138F-B044-482A-94EE-65BCB3717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3048120" y="-838080"/>
            <a:ext cx="42447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3590-090E-43F7-8BA4-ECAF61A27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1143000" y="106668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1297080" y="32004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584360" y="5430960"/>
            <a:ext cx="16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2286000" y="1905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拉开天线听广播，右下半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2438280" y="3962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端起脸盆把水泼，右上半圆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  p  p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5869080" y="1981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6556320" y="19969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F36C-7001-47EA-8200-E6F6EA1A1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2209680" y="-838080"/>
            <a:ext cx="43592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BC0C-1D13-4862-8D3B-4743AED9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2666880" y="-380880"/>
            <a:ext cx="38102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C6E8-A173-43D9-9C43-01005CC74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762120" y="91440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992880" y="3581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2438280" y="152388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两个门洞 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  m  m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2362320" y="39625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一根拐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4721040" y="3962520"/>
            <a:ext cx="156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  f  f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47B8-E384-4351-892A-ACCD778C3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533520" y="609480"/>
            <a:ext cx="1523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3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0" y="4267080"/>
            <a:ext cx="952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>
            <a:off x="228600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24382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590920" y="609480"/>
            <a:ext cx="1676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>
            <a:off x="457200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>
            <a:off x="693432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4"/>
          <p:cNvSpPr/>
          <p:nvPr/>
        </p:nvSpPr>
        <p:spPr>
          <a:xfrm>
            <a:off x="914400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724280" y="609480"/>
            <a:ext cx="236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7435800" y="609480"/>
            <a:ext cx="1708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F12C-78A8-48CF-A058-C548DD369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页脚占位符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4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548" name="Group 4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549" name="Picture 5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Text Box 6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Text Box 7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á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26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553" name="Group 11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554" name="Picture 12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3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25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28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558" name="Group 8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559" name="Picture 9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Text Box 10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Text Box 27"/>
            <p:cNvSpPr/>
            <p:nvPr/>
          </p:nvSpPr>
          <p:spPr>
            <a:xfrm>
              <a:off x="6950880" y="84780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31"/>
          <p:cNvGrpSpPr/>
          <p:nvPr/>
        </p:nvGrpSpPr>
        <p:grpSpPr>
          <a:xfrm>
            <a:off x="611280" y="3860640"/>
            <a:ext cx="2231280" cy="1942560"/>
            <a:chOff x="611280" y="3860640"/>
            <a:chExt cx="2231280" cy="1942560"/>
          </a:xfrm>
        </p:grpSpPr>
        <p:grpSp>
          <p:nvGrpSpPr>
            <p:cNvPr id="563" name="Group 14"/>
            <p:cNvGrpSpPr/>
            <p:nvPr/>
          </p:nvGrpSpPr>
          <p:grpSpPr>
            <a:xfrm>
              <a:off x="611280" y="3860640"/>
              <a:ext cx="2231280" cy="1942560"/>
              <a:chOff x="611280" y="3860640"/>
              <a:chExt cx="2231280" cy="1942560"/>
            </a:xfrm>
          </p:grpSpPr>
          <p:pic>
            <p:nvPicPr>
              <p:cNvPr id="564" name="Picture 15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611280" y="3860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Text Box 16"/>
              <p:cNvSpPr/>
              <p:nvPr/>
            </p:nvSpPr>
            <p:spPr>
              <a:xfrm>
                <a:off x="813960" y="4206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29"/>
            <p:cNvSpPr/>
            <p:nvPr/>
          </p:nvSpPr>
          <p:spPr>
            <a:xfrm>
              <a:off x="1332000" y="450828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3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568" name="Group 3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569" name="Picture 3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Text Box 3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Text Box 3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3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573" name="Group 3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574" name="Picture 3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Text Box 4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Text Box 4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2D4D-A5BF-4E01-A7E7-7D1BC4610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01:07:47Z</dcterms:created>
  <dc:creator/>
  <dc:description/>
  <cp:keywords/>
  <dc:language>en-US</dc:language>
  <cp:lastModifiedBy>User</cp:lastModifiedBy>
  <dcterms:modified xsi:type="dcterms:W3CDTF">2016-10-05T12:05:20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